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01B-1934-42C3-9B23-1DB898C9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C4A-65BF-4C1E-A654-EA224A21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1D3-47B4-4AAC-95A2-FAD8C51B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487-2E05-4609-81B2-516D243B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137-CD49-4D34-9059-80CAB6EC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AD5-4E55-4D90-A173-6661372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259-7E79-4B09-8E0D-39380BD1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7BA-0B51-4E43-B5FD-DF7E3354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D4F-8F4E-4B37-A69D-E26713C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232-8D63-4C1E-A2AB-4D0D515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658-8C7E-46C0-92A2-789ACB1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D7D-0EE5-4DA6-BC67-132FE32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0B7E-935D-417A-855A-1E0C9E37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04920" y="4572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.Japan Capi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962520" y="25146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4.Northern Is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90720" y="28954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2.Sea of Jap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038480" y="388620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5. Three Gorges D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625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3.Forbidden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6.Dunhuang 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80880" y="4876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7. Chinese Civ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410080" y="1522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8.Eve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24280" y="1066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9. Sou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5181480" y="1905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0.Nor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52280" y="35053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Beij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0" y="2819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imal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457200" y="5410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Pyongya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04920" y="4572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ok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5562720" y="2819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East 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75248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angzi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752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ellow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403848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Seo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586728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okka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2971800" y="1905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aklimakan 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rackmodif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5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95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075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274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475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6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6175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885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27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6725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625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6625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525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4275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875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1175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4474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7775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1775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4572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.Japan Capi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62520" y="25146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4.Northern Is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90720" y="28954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2.Sea of Jap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038480" y="388620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5. Three Gorges D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9625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3.Forbidden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008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6.Dunhuang 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80880" y="48769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7. Chinese Civ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410080" y="1522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8.Eve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4280" y="1066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9. Sou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181480" y="1905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Tempus Sans ITC"/>
              </a:rPr>
              <a:t>10.North Ko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52280" y="35053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Beij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0" y="2819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imal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57200" y="5410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Pyongya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4920" y="4572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ok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562720" y="2819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East 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75248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angzi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52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Yellow 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03848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Seo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86728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Hokka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971800" y="1905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imes New Roman"/>
              </a:rPr>
              <a:t>Taklimakan 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5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95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75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275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475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96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3175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85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75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725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7625"/>
                            </p:stCondLst>
                            <p:childTnLst>
                              <p:par>
                                <p:cTn id="17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3625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7525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1275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875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8175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1475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4775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8775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457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1. Mt. Fu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62520" y="2514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4.Taiw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05120" y="3048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2.Great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38480" y="38862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5. Cambo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33920" y="554688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3. Demilitarized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410080" y="4952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6. South China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4876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7. Ho Chi Min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410080" y="1522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8. Han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724280" y="106668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9. Mekong 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38080" y="1447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Tempus Sans ITC"/>
              </a:rPr>
              <a:t>10. Mongo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52280" y="35053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Angkor Civ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28195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Vietnam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" y="5410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Luzon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04920" y="4572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Parallel 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41008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Ulan B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1752480" y="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hina Fo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1752480" y="9144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Near Saigon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038480" y="4724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Form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8672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Vol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1600200" y="1905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Rice/ Plain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675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7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925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25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275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4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45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3975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795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1775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375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89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1375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575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0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75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3675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3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6975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575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4175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9175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1. Mt. Fu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62520" y="2514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4.Tai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905120" y="3048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2.Great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038480" y="3886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5. Cambo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114800" y="5667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3. Demilitarized Z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410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6. South China S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4876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7. Ho Chi Min 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10080" y="152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8. Hano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72428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9. Mekong De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838080" y="1447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empus Sans ITC"/>
              </a:rPr>
              <a:t>10.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52280" y="3505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Angkor Civ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Vietnam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7200" y="54100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Luzon S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04920" y="4572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Parallel 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410080" y="8380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Ulan B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7524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hina For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752480" y="914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Near Saigon R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038480" y="4724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Form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586728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Volc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600200" y="1905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Rice/ Plain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75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925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2525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275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0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4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145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evt="end">
                                        <p:tn val="380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3975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5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795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1775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375"/>
                            </p:stCondLst>
                            <p:childTnLst>
                              <p:par>
                                <p:cTn id="40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1375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5575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75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3675"/>
                            </p:stCondLst>
                            <p:childTnLst>
                              <p:par>
                                <p:cTn id="42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6975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1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575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4175"/>
                            </p:stCondLst>
                            <p:childTnLst>
                              <p:par>
                                <p:cTn id="441" nodeType="afterEffect" fill="hold" presetClass="entr" presetID="15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9175"/>
                            </p:stCondLst>
                            <p:childTnLst>
                              <p:par>
                                <p:cTn id="44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5"/>
          <p:cNvSpPr/>
          <p:nvPr/>
        </p:nvSpPr>
        <p:spPr>
          <a:xfrm>
            <a:off x="701028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248160" cy="5502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2:32:45Z</dcterms:created>
  <dc:creator>Dave Hallowell</dc:creator>
  <dc:description/>
  <dc:language>en-US</dc:language>
  <cp:lastModifiedBy>Johanna</cp:lastModifiedBy>
  <dcterms:modified xsi:type="dcterms:W3CDTF">2010-12-14T22:35:53Z</dcterms:modified>
  <cp:revision>8</cp:revision>
  <dc:subject/>
  <dc:title>PowerPoint Presentation</dc:title>
</cp:coreProperties>
</file>